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BF7-27A3-4216-8D45-CE5251F1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361-907D-4C96-B616-F8C7C139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510-A159-4691-B16E-62B2EEAB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A53-FFE9-4DD4-B06F-E2362DD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764-FD8B-49CE-822C-94B26ACA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054-DF17-45C8-9976-F6637A0F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2AF-E248-4DCD-B61F-450BDD1D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549-7766-4EF5-B509-C3F6C11C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924-809A-4221-BA34-F8C3770B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663-8D7F-49D0-A8B4-6CEC4D7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C15-3299-472E-B321-56875697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545-3448-4910-B49F-E2D00E99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F2B7-9BE2-434D-845B-A84DDBFD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hyperlink" Target="mailto:hzumaeta@renaissancecharter.or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7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29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para le Examen: Capitulo 8 la proxima se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ritura en silen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anish, write a paragraph about your favorite musician or musical group, tell why you like their music and what your favorite song by this musician or group is. (5 sentence MIN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2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5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 QUIZ; DUE BY MIDNIGHT TOMORROW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: TEST PREP /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aso Cumulativo Self-Check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mitting the quiz, complete the bottom section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TEACHER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zumaeta@renaissancecharte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8:21:29Z</dcterms:created>
  <dc:creator>Helen Zumaeta</dc:creator>
  <dc:description/>
  <dc:language>en-US</dc:language>
  <cp:lastModifiedBy>Helen Zumaeta</cp:lastModifiedBy>
  <dcterms:modified xsi:type="dcterms:W3CDTF">2013-01-22T19:10:09Z</dcterms:modified>
  <cp:revision>3</cp:revision>
  <dc:subject/>
  <dc:title>Me llamo________ Clase 8im La fecha es el 17 de enero del 2013</dc:title>
</cp:coreProperties>
</file>